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D1B-148B-4736-899C-A733635A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BC8-07F7-4ECD-B884-FB3F22C1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2B0-5343-4405-9268-EF3136F7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92D-60B1-45C0-A6E4-D559606C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016-A64F-4B5A-BD92-38CD306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E1C-D5A0-445E-8A72-AD95821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E1A-01BA-40A1-BF2C-5D01599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460-F0A3-4BAC-B3DC-7BFF30C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847-C138-4D71-AF81-DDA3A1E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EE3-35AC-4D39-888A-82B0F48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E8F-E2AD-45ED-BFEF-99CF2DA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418-43CA-443F-B97A-29AA485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779D-D3FB-40B6-B724-A3B873AE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Partnering for Education</a:t>
            </a:r>
            <a:br>
              <a:rPr sz="40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d </a:t>
            </a:r>
            <a:br>
              <a:rPr sz="32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vitation to Local K-12 STEM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Team Member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omic Imag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ghid Corcoran (G), Ruth Craft (T) &amp;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nette Raigoza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tronom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e Ribaudo (G) &amp; Aaron McNeely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ames Whitcomb(G) &amp; Mark Ballentin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informatic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ill Dzurisin (G) &amp; Tom Loughra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otic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yan Connaughton (G), Ken Ander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an Brubaker (T) &amp; Matt Modli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ice of Congressman Joe Donn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um Centerpiece – Project Fai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Tours – Chemistry &amp; Physics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inders – Evaluation and Contac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x Lunch – Available in Gall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or of Community Relations University of Notre D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on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fice of U.S. Senator Evan Bay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onso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tional Scienc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QuarkNet Center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Research Community (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help of MAN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ng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Eyes (Thomas Jefferson Univers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ISM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rk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2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:30 - 10:0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00 - 10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 of Museum of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 Digital Visualization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40 - 11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 Presentation by Dr. Jamie S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:40 – 12:00 no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:00 – 2:00 p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ing Remarks, Lunch and Project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s of Chemistry &amp; Physics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5 Year NSF GK-12 Project –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ly 6 Graduate Fellows from Science and Engineering and 7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often include a graduate fellow, a teacher and several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concentrate on research during the summer and on educational activities during the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is Important – complementary approach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acher is the Professional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 Effective and Collegial Relationships - M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gin Slowly – An 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ed Judiciously wit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ablish an Enduring Community of Researchers/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ster a Rich Culture in Engineering, Science and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uring Community and Rich Culture are Mutually Enh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Variety of Opportuniti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ome a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– primarily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assroom Activities – primarily during the 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ear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uate Fellow can be a mentor/colleague for 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/Implement Activities – BioEyes &amp;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ubs – Robotics, Science, Ma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a Suggestion – maybe we can collaborate in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y we haven’t thought of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efits for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ence the collegiality and excitement of collaborating with fellow teachers and Notre Dame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rk with fellow teachers and Notre Dame researchers to enhance STEM education in the loc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aried research positions at Notre Dame during the su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ademic credit for graduate research at Notre D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J. Mooney</cp:lastModifiedBy>
  <dcterms:modified xsi:type="dcterms:W3CDTF">2008-01-17T20:49:4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